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D44-1923-4B0C-8A83-374326B6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543-6875-489B-A540-3E83133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D15-48CC-493E-9E06-724CD696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5D2-FE6B-4C6A-B76F-4706C524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3E3-F71A-4745-8714-06421ED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026-89C0-44B5-8A66-7E0C3A7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C14-ACAA-4540-8A01-0D7DE2E3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165-7421-4B07-9273-5FAACB07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EED-7275-45F1-A8E9-CB2BC75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AC82-9CDC-4489-B8D5-586DEB2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6618-D715-4DB2-8355-A280070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3A9-815F-48F9-8705-1415E6D1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0331-E5FA-4AC7-858D-E2BE5D1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BFF-B4F6-49E6-AB75-52F0DD9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8F5-A25E-41B2-AA06-AE1545D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FD47-12FA-46E5-B368-2201FE36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747-4681-4B5F-9D85-73E5C6C4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53E1-92E4-4D19-B996-221CCA9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98D2-FEA6-45ED-9D8C-3DC392F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B7E7-2E55-44EF-BD98-CB52C2D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D0B5-012F-4577-9496-48892CA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81CA-6185-42A5-B087-484EB83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5A1-C9D0-4F5D-8A8C-67DC2F6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7786-BA18-4378-B354-9E9CB912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DBD8-CE6B-43B6-82C6-8B43B29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F30F-E7EE-4F1D-9D58-B0163DD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5558-AE00-4680-B8E7-2EB3E96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F9EE-25BC-459A-8FD3-A1161A8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780D-4C8D-4095-8791-AC81EA79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6751-180C-4FBF-B6B9-FF6C2FFA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F976-7C3E-4503-873A-B1D17604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4EEC-6CE4-4545-9C2A-CF3EF35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C13E-4859-4D03-8D35-D9F88329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A3E-609B-4764-B7CA-86334E3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510B-04EA-4FCB-B58F-0FACEF8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0EB4-8E56-49DF-BE12-0517D68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CA74-51EE-450A-B725-17DC5A43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F5A5-4D4D-41AB-91EC-1F0AB80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C00D-1BAA-43EB-91E5-9361EE1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E6C5-92FC-4EEC-956F-25F2CC1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E470-1739-49D9-A4BB-A5664C4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550A-F325-47A1-86D5-85F93BB9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593F-2D18-4B05-B126-F5DED5B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FEB9-35CD-481F-B3ED-BF196DBC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422-6BD1-435E-9771-B0DEC23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C05D1-C658-4C03-804B-77B66B69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B15A-9965-446F-8449-805A7546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8076-B849-4AA9-B70F-B2B4A89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7E3F-62E0-4E4F-912E-AE2CC661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EF24-D58C-4BB1-AD1B-ED9A2F5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D781-6330-4A11-8CA0-65A7BD3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7503-EAD9-4675-A3F1-318A322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BB4A-C327-4B7D-B0D4-993FA57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4FC76-26E6-4B55-84B2-852C3C17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CBF2-8143-4146-9B61-82A4A874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D9D-6631-4F8F-B1AA-F31675F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6EB9-12DB-4732-AAA1-1F7899AC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5F8-E2B5-4965-B5F9-F05F930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9DF-6584-4268-BC3D-1BAB86A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52D-01F1-47E9-B602-AC629D15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2E2-9EAA-4583-80E3-77A59DA61D2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C333-9964-4162-ACA7-ACF252A7365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5236-BE30-43DB-A609-48DD27D742E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9AF-CFC4-434C-8BB9-8A015A3ACAB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93EB-2965-4D43-A8C2-D285BFC53D0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18.pn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620120" cy="3011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9680" y="3886200"/>
            <a:ext cx="8358120" cy="240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2e4e"/>
                </a:solidFill>
                <a:latin typeface="Times New Roman"/>
              </a:rPr>
              <a:t>Выполнил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воспитатель МАДОУ КВ «Детский сад № 8 Динского район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рная Ирина Никола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067200" y="133200"/>
            <a:ext cx="2511360" cy="80028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778356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Пользователь\Рабочий стол\повар кондит картинки\Downloads\повар3.gif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307152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1" descr=""/>
          <p:cNvPicPr/>
          <p:nvPr/>
        </p:nvPicPr>
        <p:blipFill>
          <a:blip r:embed="rId4"/>
          <a:stretch/>
        </p:blipFill>
        <p:spPr>
          <a:xfrm>
            <a:off x="2706840" y="133200"/>
            <a:ext cx="3444840" cy="731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Пользователь\Рабочий стол\Downloads\борщ.jpg"/>
          <p:cNvPicPr/>
          <p:nvPr/>
        </p:nvPicPr>
        <p:blipFill>
          <a:blip r:embed="rId5"/>
          <a:stretch/>
        </p:blipFill>
        <p:spPr>
          <a:xfrm>
            <a:off x="214200" y="2214720"/>
            <a:ext cx="2500560" cy="2214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Documents and Settings\Пользователь\Рабочий стол\Downloads\котлеты1.jpg"/>
          <p:cNvPicPr/>
          <p:nvPr/>
        </p:nvPicPr>
        <p:blipFill>
          <a:blip r:embed="rId6"/>
          <a:stretch/>
        </p:blipFill>
        <p:spPr>
          <a:xfrm>
            <a:off x="6072120" y="442908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Пользователь\Рабочий стол\Downloads\макароны.jpg"/>
          <p:cNvPicPr/>
          <p:nvPr/>
        </p:nvPicPr>
        <p:blipFill>
          <a:blip r:embed="rId7"/>
          <a:stretch/>
        </p:blipFill>
        <p:spPr>
          <a:xfrm>
            <a:off x="214200" y="4500720"/>
            <a:ext cx="264348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C:\Documents and Settings\Пользователь\Рабочий стол\Downloads\пюре.jpg"/>
          <p:cNvPicPr/>
          <p:nvPr/>
        </p:nvPicPr>
        <p:blipFill>
          <a:blip r:embed="rId8"/>
          <a:stretch/>
        </p:blipFill>
        <p:spPr>
          <a:xfrm>
            <a:off x="3143160" y="450072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C:\Documents and Settings\Пользователь\Рабочий стол\Downloads\салат1.jpg"/>
          <p:cNvPicPr/>
          <p:nvPr/>
        </p:nvPicPr>
        <p:blipFill>
          <a:blip r:embed="rId9"/>
          <a:stretch/>
        </p:blipFill>
        <p:spPr>
          <a:xfrm>
            <a:off x="214200" y="214200"/>
            <a:ext cx="2500560" cy="18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C:\Documents and Settings\Пользователь\Рабочий стол\Downloads\каша.jpg"/>
          <p:cNvPicPr/>
          <p:nvPr/>
        </p:nvPicPr>
        <p:blipFill>
          <a:blip r:embed="rId10"/>
          <a:stretch/>
        </p:blipFill>
        <p:spPr>
          <a:xfrm>
            <a:off x="6072120" y="14292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Пользователь\Рабочий стол\еда\пельмени.jpg"/>
          <p:cNvPicPr/>
          <p:nvPr/>
        </p:nvPicPr>
        <p:blipFill>
          <a:blip r:embed="rId11"/>
          <a:stretch/>
        </p:blipFill>
        <p:spPr>
          <a:xfrm>
            <a:off x="6000840" y="2214720"/>
            <a:ext cx="2857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041640" y="133200"/>
            <a:ext cx="2962440" cy="65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Documents and Settings\Пользователь\Рабочий стол\повар кондит картинки\Downloads\кондитер.png"/>
          <p:cNvPicPr/>
          <p:nvPr/>
        </p:nvPicPr>
        <p:blipFill>
          <a:blip r:embed="rId2"/>
          <a:stretch/>
        </p:blipFill>
        <p:spPr>
          <a:xfrm>
            <a:off x="3071880" y="928800"/>
            <a:ext cx="2857320" cy="3214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Пользователь\Рабочий стол\тор\торт2.jpg"/>
          <p:cNvPicPr/>
          <p:nvPr/>
        </p:nvPicPr>
        <p:blipFill>
          <a:blip r:embed="rId3"/>
          <a:stretch/>
        </p:blipFill>
        <p:spPr>
          <a:xfrm>
            <a:off x="214200" y="14292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Пользователь\Рабочий стол\тор\торт3.jpg"/>
          <p:cNvPicPr/>
          <p:nvPr/>
        </p:nvPicPr>
        <p:blipFill>
          <a:blip r:embed="rId4"/>
          <a:stretch/>
        </p:blipFill>
        <p:spPr>
          <a:xfrm>
            <a:off x="214200" y="242892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Пользователь\Рабочий стол\тор\пироженое3.jpg"/>
          <p:cNvPicPr/>
          <p:nvPr/>
        </p:nvPicPr>
        <p:blipFill>
          <a:blip r:embed="rId5"/>
          <a:stretch/>
        </p:blipFill>
        <p:spPr>
          <a:xfrm>
            <a:off x="214200" y="450072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Пользователь\Рабочий стол\тор\пирожное.jpg"/>
          <p:cNvPicPr/>
          <p:nvPr/>
        </p:nvPicPr>
        <p:blipFill>
          <a:blip r:embed="rId6"/>
          <a:stretch/>
        </p:blipFill>
        <p:spPr>
          <a:xfrm>
            <a:off x="2928960" y="4286160"/>
            <a:ext cx="3071880" cy="2362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Пользователь\Рабочий стол\тор\пирог.jpg"/>
          <p:cNvPicPr/>
          <p:nvPr/>
        </p:nvPicPr>
        <p:blipFill>
          <a:blip r:embed="rId7"/>
          <a:stretch/>
        </p:blipFill>
        <p:spPr>
          <a:xfrm>
            <a:off x="6215040" y="450072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Пользователь\Рабочий стол\тор\печенье.jpg"/>
          <p:cNvPicPr/>
          <p:nvPr/>
        </p:nvPicPr>
        <p:blipFill>
          <a:blip r:embed="rId8"/>
          <a:stretch/>
        </p:blipFill>
        <p:spPr>
          <a:xfrm>
            <a:off x="6215040" y="14292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C:\Documents and Settings\Пользователь\Рабочий стол\тор\пряник.jpg"/>
          <p:cNvPicPr/>
          <p:nvPr/>
        </p:nvPicPr>
        <p:blipFill>
          <a:blip r:embed="rId9"/>
          <a:stretch/>
        </p:blipFill>
        <p:spPr>
          <a:xfrm>
            <a:off x="6215040" y="2357280"/>
            <a:ext cx="2643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3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559640" cy="65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Пользователь\Рабочий стол\повар кондит картинки\Downloads\повар4.jpg"/>
          <p:cNvPicPr/>
          <p:nvPr/>
        </p:nvPicPr>
        <p:blipFill>
          <a:blip r:embed="rId2"/>
          <a:stretch/>
        </p:blipFill>
        <p:spPr>
          <a:xfrm>
            <a:off x="571680" y="371484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Documents and Settings\Пользователь\Рабочий стол\повар кондит картинки\Downloads\цех кондитер.jpg"/>
          <p:cNvPicPr/>
          <p:nvPr/>
        </p:nvPicPr>
        <p:blipFill>
          <a:blip r:embed="rId3"/>
          <a:stretch/>
        </p:blipFill>
        <p:spPr>
          <a:xfrm>
            <a:off x="2357280" y="857160"/>
            <a:ext cx="3929400" cy="269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Documents and Settings\Пользователь\Рабочий стол\повар кондит картинки\Downloads\кондитер.jpg"/>
          <p:cNvPicPr/>
          <p:nvPr/>
        </p:nvPicPr>
        <p:blipFill>
          <a:blip r:embed="rId4"/>
          <a:stretch/>
        </p:blipFill>
        <p:spPr>
          <a:xfrm>
            <a:off x="4357800" y="371484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706840" y="-30240"/>
            <a:ext cx="3730320" cy="1395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Пользователь\Рабочий стол\повар кондит картинки\Downloads\конд мешок 1.jpg"/>
          <p:cNvPicPr/>
          <p:nvPr/>
        </p:nvPicPr>
        <p:blipFill>
          <a:blip r:embed="rId2"/>
          <a:stretch/>
        </p:blipFill>
        <p:spPr>
          <a:xfrm>
            <a:off x="6500880" y="142920"/>
            <a:ext cx="2419200" cy="214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Пользователь\Рабочий стол\повар кондит картинки\Downloads\форма для торта.jpg"/>
          <p:cNvPicPr/>
          <p:nvPr/>
        </p:nvPicPr>
        <p:blipFill>
          <a:blip r:embed="rId3"/>
          <a:stretch/>
        </p:blipFill>
        <p:spPr>
          <a:xfrm>
            <a:off x="6357960" y="228600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Пользователь\Рабочий стол\тор\кастр конд.jpg"/>
          <p:cNvPicPr/>
          <p:nvPr/>
        </p:nvPicPr>
        <p:blipFill>
          <a:blip r:embed="rId4"/>
          <a:stretch/>
        </p:blipFill>
        <p:spPr>
          <a:xfrm>
            <a:off x="214200" y="0"/>
            <a:ext cx="2643480" cy="235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Пользователь\Рабочий стол\тор\вормочки.jpg"/>
          <p:cNvPicPr/>
          <p:nvPr/>
        </p:nvPicPr>
        <p:blipFill>
          <a:blip r:embed="rId5"/>
          <a:stretch/>
        </p:blipFill>
        <p:spPr>
          <a:xfrm>
            <a:off x="6215040" y="4572000"/>
            <a:ext cx="271476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Documents and Settings\Пользователь\Рабочий стол\тор\лопатки.jpg"/>
          <p:cNvPicPr/>
          <p:nvPr/>
        </p:nvPicPr>
        <p:blipFill>
          <a:blip r:embed="rId6"/>
          <a:stretch/>
        </p:blipFill>
        <p:spPr>
          <a:xfrm>
            <a:off x="3143160" y="4500720"/>
            <a:ext cx="2738520" cy="235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Documents and Settings\Пользователь\Рабочий стол\тор\скалка1.jpg"/>
          <p:cNvPicPr/>
          <p:nvPr/>
        </p:nvPicPr>
        <p:blipFill>
          <a:blip r:embed="rId7"/>
          <a:stretch/>
        </p:blipFill>
        <p:spPr>
          <a:xfrm>
            <a:off x="214200" y="464328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Documents and Settings\Пользователь\Рабочий стол\повар кондит картинки\Downloads\кондитер.png"/>
          <p:cNvPicPr/>
          <p:nvPr/>
        </p:nvPicPr>
        <p:blipFill>
          <a:blip r:embed="rId8"/>
          <a:stretch/>
        </p:blipFill>
        <p:spPr>
          <a:xfrm>
            <a:off x="3429000" y="1357200"/>
            <a:ext cx="2857680" cy="3143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Пользователь\Рабочий стол\повар кондит картинки\Downloads\венчик.jpg"/>
          <p:cNvPicPr/>
          <p:nvPr/>
        </p:nvPicPr>
        <p:blipFill>
          <a:blip r:embed="rId9"/>
          <a:stretch/>
        </p:blipFill>
        <p:spPr>
          <a:xfrm>
            <a:off x="285840" y="2500200"/>
            <a:ext cx="2500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0:09:06Z</dcterms:created>
  <dc:creator>Пользователь</dc:creator>
  <dc:description/>
  <dc:language>en-US</dc:language>
  <cp:lastModifiedBy>ksu</cp:lastModifiedBy>
  <dcterms:modified xsi:type="dcterms:W3CDTF">2012-03-13T16:20:24Z</dcterms:modified>
  <cp:revision>26</cp:revision>
  <dc:subject/>
  <dc:title>ПРЕЗЕНТАЦИЯ «Труд повара – кондитера»</dc:title>
</cp:coreProperties>
</file>