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DCB1-6C57-42A3-9D19-986508E4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F3B1-F7C3-4815-A8FA-E7B56967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F12-1FC4-44A5-A63C-A1D0316C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2063-EA8D-4BED-9CDD-4973F1D6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D7E4-9D9F-47AB-8DFA-60405F80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6804-62A5-4D0D-BB02-C0B88192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F375-A8BA-431F-9D77-F9860B4C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D9A5-94C4-4FC3-AEF9-913A07C8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1955-3657-4452-B536-A3E00B73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AC4-E6F0-4370-8D2A-98A4D926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DD4-BB43-4CAE-8314-1AC27FC0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72C-0AEB-4B44-9805-C2898A44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8C4D-921D-41F8-9D5E-06FB51C79F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7043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770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igor</cp:lastModifiedBy>
  <dcterms:modified xsi:type="dcterms:W3CDTF">2012-10-08T17:02:49Z</dcterms:modified>
  <cp:revision>26</cp:revision>
  <dc:subject/>
  <dc:title>Слайд 1</dc:title>
</cp:coreProperties>
</file>